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823-84BD-4E65-94E1-0213C4A3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407-3435-49DB-9EA4-0331A76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979-88A6-477E-8E44-ADAF8512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644-B1EE-47A4-842D-D8681464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A4D5-2470-428B-A887-91D8C30A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A007-8676-4AB5-B76D-0660DD4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2E7F-4B74-4AD9-BBB9-5D38FC2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E65-3BCC-4F26-A002-7BCD986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520C-A25F-49DA-AF82-E060B4A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EB9-7458-4DCA-AF87-A6E250A7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BAB7-1188-426F-B432-A0C1C2A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F17-F796-4F63-85F4-D3D22969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CCF-21D5-4AFF-A178-F59FA1C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980-727C-4D26-9DC3-1732D1B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799-36E6-4F23-B032-4873FFF1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08B0-B7E8-47C5-ABC8-C2B95FCD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4C9C-4658-4250-94AC-65B5BADD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2CDD-6C44-4C92-A70A-69AADCCF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EA65-8596-4C36-AE60-9CE37EE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5D9A-B89C-4692-8529-BFAA6DE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0D21-CF5F-4E8E-8E9E-5F0472A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1EB7-DF2D-4151-8C9E-EBC76B4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9C7-048F-4EC0-9106-0BA799E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90BC-8F80-4B47-84FC-B5293ED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BB11-7B5D-42F4-90F7-4D3DFBD1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46DD-2965-4EFB-B84D-D3244A0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EEA4-A07C-491F-9FC6-CE6E598D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52AD-BC5A-4459-A47B-5E455B3E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13BD-16BF-4B94-999E-E9D5D639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8372-F3BB-4BA6-93C0-CC072157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745C-5105-4DB1-845B-CE4D8E67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38B5-9537-43A1-B2E2-3ED9FE24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0A90-C660-4076-B1D1-A22F6CE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371-B72A-4265-AB12-E9BD8E5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5358-D36B-4431-AD0D-5DE1E40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A279-AEC6-45B4-ACE5-8979159E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ED53-B7AF-4DB6-88E9-45869595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BB96-ED42-4DEF-A25B-FEC439D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C0CF-7DAE-4B4A-BC4B-E2D8B40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5F30-2354-4DCA-BA7F-E5DE275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EBAB-4B79-42B0-B80F-F523F5E8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F73B-DBC9-4D2A-B0B6-E9DA5CEE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A7F9B-6767-4E0E-9DA9-4F5178B8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F987-17A2-4410-A786-0F48C93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44C-16DA-49DB-8685-5C3DA3A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3F10-3AA6-434F-B2E0-B0B46864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751C-4A45-4701-B432-A142F7CB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6B10-44BD-456C-9D5C-944AB73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AA39-04F5-4099-8A0D-7A9C8A3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68294-914E-4F5D-812B-520D462E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96E5-E98F-4F77-9695-1FDDD8B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246B-5E2A-4308-9391-52BF5FB9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BAF01-C53C-47DC-B836-579B52F5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BB3F-34B2-4391-845C-A6D480E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E4E2-9586-4C85-9E2C-C5B8A5F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4DB-D763-47BA-B8BD-6B93FA3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979D-796B-4F40-9114-FFBDDE00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7840B-0BC7-40C5-9547-47E339E4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23ACA-A277-4ED9-9C5F-9CB7B82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9562-6D33-4B93-90F9-59C8040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7BDC-D2EB-4435-BB28-AFEBDA1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B3E3-6054-41BC-AD48-F8E572D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10CBD-7E96-4414-A323-6B2BF4A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B83C-1306-4A6D-936D-2BB31CD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6A06-E939-4990-B186-B0A2211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BB24-FF8B-440F-8F9C-9EEAA5A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2A3-6E88-4E74-8011-B2475EDF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2A60-CE0F-465F-B161-B0D7448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BFFA-5DAB-44E9-87B6-B3E9665D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D34B8-BCF8-46AF-AF8D-954F4ED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2E66-2697-4866-96AE-DA24CF55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07165-1B76-401B-8D1D-933B94F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2CE9-F37C-4A8D-A4CD-3EE7EB76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3BF83-46CE-4C03-A1D4-91C3B98B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FED3-0EB4-4E05-AEBE-E5B70DA1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25648-3633-4044-AD8C-ADDB80C4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C39A-C331-4DA1-9760-F7AC18F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DAB-DDED-4286-9002-B9C51C2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916B-95A5-46B1-A91A-CBC51FD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6C48-D378-4758-BFF1-42FD10D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8B3E-DAAD-4E8A-951C-BEC74CA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5648-11ED-45E5-9840-A98BE961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D0246-0510-47B6-9F14-AFD474C0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BC6-7434-44F9-9671-B9CEA67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12F-DFD2-4965-B7D3-3EAD389119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E84-A09D-4336-A752-8E2D198AED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ADC-6799-4DA2-AA86-2AFC913D0C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48A-B30B-46EE-93F5-5863A6F158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714-86E0-4E67-BAF6-A42B4D1858C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A1C-A7A0-46A6-BA31-F83A83E32C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9FA-9168-4F73-8A53-B7AE4635C8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ssay Introduc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nnect Your Subject to Your Readers’ Interests or Valu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rt with Something That Will Provoke Readers’ Interes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rt with an Anecdo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k a 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y are Introductions Important?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en reading something, we usually read the first few lines or paragraphs to see if we’d like to continu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re  “attention grabbing” = more likely we’ll read it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alleng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write for a variety of purp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read for a variety of purp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ONE style of introducing a topic will ALWAYs work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sider WHY You Are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ademic audiences expect essays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context for your ess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lain how the text fits into some larger conversation (They say…I say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certain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lore an aspect of a top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-Academic audiences expect writings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ice the reader to read more b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ng ideas in one piece with a shared experience (that the audience might hav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ing anecdo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ttention-grabbing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ques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non-sensical example that may make sense as the piece adv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ardles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r introduction must “warm-up” the reader to the point you are going to mak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 cannot (most likely) just come out and fling your thesis around in the first senten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opening acts at concer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pre-game show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movie preview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the banter newscasters and teachers offer before jumping into a topi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st Importantly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nk about brain research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uman brain MUST attach new information to information it ALREADY h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…if your thesis (and essay) are “new” information, you must build a little bit of background within the essay before giving it new stuff to think abou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lain the Larger Context of Your Topic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ffer Background Inform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fine Key Terms or Concep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43:30Z</dcterms:created>
  <dc:creator>.</dc:creator>
  <dc:description/>
  <dc:language>en-US</dc:language>
  <cp:lastModifiedBy>.</cp:lastModifiedBy>
  <dcterms:modified xsi:type="dcterms:W3CDTF">2009-01-06T18:04:00Z</dcterms:modified>
  <cp:revision>4</cp:revision>
  <dc:subject/>
  <dc:title>Essay Introductions</dc:title>
</cp:coreProperties>
</file>